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A5EA-0077-4EF3-909B-4279EF5F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E73-5AAD-4AD2-BAA2-9BBDDF54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35D-B586-41FC-9BCC-5C9CAF45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27D-F032-4344-8A32-31484A16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216-9780-4FA4-B0FD-E1F4CF7D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1CD8-BB92-4ADA-A334-534F1000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5FB-325C-40E1-9413-A3AE4F5B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BB2-FE9C-41F4-82AA-657A6EAC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612-7A1C-45B6-844A-0786069A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DF8-886F-4638-B5D7-05EEDE8F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9C5-9CB9-42F9-897C-6806955D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FDD-42BD-4544-B8A1-74E14831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EF27-9CCB-43D2-A4EE-29604FB374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2362320" y="2590920"/>
            <a:ext cx="67816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Arial"/>
              </a:rPr>
              <a:t>Робототехник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Arial"/>
              </a:rPr>
              <a:t>профессия будущ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5105520" y="3954600"/>
            <a:ext cx="388620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полнил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уэр Виктор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ница 4 класса «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«Лицей № 57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копьевского городского окр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ководитель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икитина Надежд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52280" y="6462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Муниципальное бюджет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«Лицей № 57» Прокопьевского городского о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7878600" y="12600"/>
            <a:ext cx="126540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Медицинские ро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0" y="1235160"/>
            <a:ext cx="9144000" cy="56386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"/>
          <p:cNvPicPr/>
          <p:nvPr/>
        </p:nvPicPr>
        <p:blipFill>
          <a:blip r:embed="rId2"/>
          <a:stretch/>
        </p:blipFill>
        <p:spPr>
          <a:xfrm>
            <a:off x="12600" y="2057400"/>
            <a:ext cx="3191040" cy="4286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3141000" y="2057400"/>
            <a:ext cx="532728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45"/>
                </a:solidFill>
                <a:latin typeface="Arial"/>
              </a:rPr>
              <a:t>+   </a:t>
            </a: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имеют большую доступ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в сравнении с лапароскопическими инструмен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+   более точное движение инстр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+   выводит изображение на эк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+   бионические протез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(управляются собств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нервной системой челове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6164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Отсутствие обратной связ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(врачу необходимо тщатель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отслеживать свои движ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чтобы не повредить тка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45"/>
                </a:solidFill>
                <a:latin typeface="Arial"/>
              </a:rPr>
              <a:t>-   Узкое операционное 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165240" y="1235160"/>
            <a:ext cx="881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Широко используются в медицине для диагностики и хирургических вмешательств. Имеют свои преимущества и недоста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Робот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PROMOB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304920" y="51102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ым известным и популярным роботом российского производства, несомненно, является Promobot. Он экспортируется в 42 страны мира, поэтому его можно купить в Европе, США и даже Австрал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2357280" y="1733400"/>
            <a:ext cx="389592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Робот К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304920" y="5110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бот Кики сделан в виде женщины и существует в разных вариантах.</a:t>
            </a: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ё можно встретить в аэропорту Казани и купить у неё мороженое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357280" y="1920960"/>
            <a:ext cx="38959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 Black"/>
                <a:ea typeface="Segoe UI Black"/>
              </a:rPr>
              <a:t>Экспериментальное анкетирование учащихс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Segoe UI Black"/>
                <a:ea typeface="Segoe UI Black"/>
              </a:rPr>
              <a:t> 4 класса «А» МБОУ «Лицей №57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Segoe UI Black"/>
                <a:ea typeface="Segoe UI Black"/>
              </a:rPr>
              <a:t>Прокопьевского городского ок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96" name="Диаграмма 3" descr=""/>
          <p:cNvPicPr/>
          <p:nvPr/>
        </p:nvPicPr>
        <p:blipFill>
          <a:blip r:embed="rId2"/>
          <a:stretch/>
        </p:blipFill>
        <p:spPr>
          <a:xfrm>
            <a:off x="635040" y="1473120"/>
            <a:ext cx="7950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оздание и программирование робота из конструктора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LEGO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WEDO 2.0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одель «Прин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5481720" cy="266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4638600" y="1768320"/>
            <a:ext cx="450216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4"/>
          <a:stretch/>
        </p:blipFill>
        <p:spPr>
          <a:xfrm>
            <a:off x="0" y="4052880"/>
            <a:ext cx="2619360" cy="905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5"/>
          <a:stretch/>
        </p:blipFill>
        <p:spPr>
          <a:xfrm>
            <a:off x="152280" y="5181480"/>
            <a:ext cx="53056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9160" y="304560"/>
            <a:ext cx="890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Нашей обновляющейся экономике, которая выходит на новые рубежи, связанные с внедрением новых технологий, ей нужны и новые кадры, прежде всего кадры инженерные. Нужны люди, которые понимают, что такое программирование, робототехника»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—  В.В. Пут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380880" y="182880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проекта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ь каким образом мир современных технологий влияет на выбор нашей профессии в будущ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5316480" y="180972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проекта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путь развития робототехники в истории человечества, понять ее возможные перспективы развития в будущ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941560" y="278136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Задач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хема 4" descr=""/>
          <p:cNvPicPr/>
          <p:nvPr/>
        </p:nvPicPr>
        <p:blipFill>
          <a:blip r:embed="rId2"/>
          <a:stretch/>
        </p:blipFill>
        <p:spPr>
          <a:xfrm>
            <a:off x="255600" y="2962440"/>
            <a:ext cx="8632800" cy="1536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"/>
          <p:cNvPicPr/>
          <p:nvPr/>
        </p:nvPicPr>
        <p:blipFill>
          <a:blip r:embed="rId3"/>
          <a:stretch/>
        </p:blipFill>
        <p:spPr>
          <a:xfrm>
            <a:off x="7772400" y="5410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457200" y="4794120"/>
            <a:ext cx="8093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449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потеза исследовательского проекта: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тотехника может быть не просто игрой, а серьезным занятием, которое поможет сделать выбор будущей профессии, а возможно и стать 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Bahnschrift Light Condensed"/>
              </a:rPr>
              <a:t>Робототехника</a:t>
            </a:r>
            <a:r>
              <a:rPr b="1" lang="ru-RU" sz="2400" spc="-1" strike="noStrike">
                <a:solidFill>
                  <a:srgbClr val="0070c0"/>
                </a:solidFill>
                <a:latin typeface="Bahnschrift Light Condensed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ahnschrift Light Condensed"/>
              </a:rPr>
              <a:t>(</a:t>
            </a:r>
            <a:r>
              <a:rPr b="1" lang="ru-RU" sz="2400" spc="-1" strike="noStrike">
                <a:solidFill>
                  <a:srgbClr val="262673"/>
                </a:solidFill>
                <a:latin typeface="Bahnschrift Light Condensed"/>
              </a:rPr>
              <a:t>от робот и техника) - прикладная наука, занимающаяся разработкой   автоматизированных   технических  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67080" y="1752480"/>
            <a:ext cx="4724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b200"/>
                </a:solidFill>
                <a:latin typeface="Bahnschrift Light Condensed"/>
              </a:rPr>
              <a:t>3 закона </a:t>
            </a:r>
            <a:r>
              <a:rPr b="1" i="1" lang="ru-RU" sz="2800" spc="-1" strike="noStrike">
                <a:solidFill>
                  <a:srgbClr val="ffc000"/>
                </a:solidFill>
                <a:latin typeface="Bahnschrift Light Condensed"/>
              </a:rPr>
              <a:t>робототехники </a:t>
            </a:r>
            <a:r>
              <a:rPr b="1" lang="ru-RU" sz="2800" spc="-1" strike="noStrike">
                <a:solidFill>
                  <a:srgbClr val="ffc000"/>
                </a:solidFill>
                <a:latin typeface="Bahnschrift Light Condensed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Bahnschrift Light Condensed"/>
              </a:rPr>
              <a:t>- Робот не может навредить человеку или, бездействуя, допустить, чтобы человеку был нанесен вре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Bahnschrift Light Condensed"/>
              </a:rPr>
              <a:t>- Робот должен подчиняться приказам, которые дает ему человек за исключением случаев, когда такие приказы противоречат первому правил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Bahnschrift Light Condensed"/>
              </a:rPr>
              <a:t>- Робот должен защищать свое существование до тех пор эта защита не противоречит первому или второму прав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194d"/>
                </a:solidFill>
                <a:latin typeface="Arial"/>
              </a:rPr>
              <a:t>Цель создания роботов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90760" y="190512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создание эффективного помощн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способного совершать операции по достижению целей, поставленных челове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Иными сло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b200"/>
                </a:solidFill>
                <a:latin typeface="Arial"/>
              </a:rPr>
              <a:t>главная цель создания роботов</a:t>
            </a:r>
            <a:r>
              <a:rPr b="0" lang="ru-RU" sz="1800" spc="-1" strike="noStrike">
                <a:solidFill>
                  <a:srgbClr val="eab2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освободить человека от однотип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рутинной работы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и облегчить его 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История создания робо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134460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3733920" y="1752480"/>
            <a:ext cx="5324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449280" algn="just">
              <a:lnSpc>
                <a:spcPct val="150000"/>
              </a:lnSpc>
              <a:spcBef>
                <a:spcPts val="363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ые мысли к созданию роботов возникли еще до нашей эры: в середине 3-го тысячелетия египтяне изобрели «думающих машин» - внутри статуй прятались жрецы, чтобы давать предсказания и советы. 1495 году Леонардо да Винчи создает проект механического рыцаря, чтобы показать, что машина может двигаться, как человек. Но Леонардо так его и не сконструировал. Это изобретение эпохи Возрождения считается первым в истории робо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 3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Image 4" descr=""/>
          <p:cNvPicPr/>
          <p:nvPr/>
        </p:nvPicPr>
        <p:blipFill>
          <a:blip r:embed="rId3"/>
          <a:stretch/>
        </p:blipFill>
        <p:spPr>
          <a:xfrm>
            <a:off x="1676520" y="2362320"/>
            <a:ext cx="1371600" cy="990360"/>
          </a:xfrm>
          <a:prstGeom prst="rect">
            <a:avLst/>
          </a:prstGeom>
          <a:ln w="0">
            <a:noFill/>
          </a:ln>
        </p:spPr>
      </p:pic>
      <p:pic>
        <p:nvPicPr>
          <p:cNvPr id="62" name="Image 6" descr=""/>
          <p:cNvPicPr/>
          <p:nvPr/>
        </p:nvPicPr>
        <p:blipFill>
          <a:blip r:embed="rId4"/>
          <a:stretch/>
        </p:blipFill>
        <p:spPr>
          <a:xfrm>
            <a:off x="101520" y="2971800"/>
            <a:ext cx="157500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Image 5" descr=""/>
          <p:cNvPicPr/>
          <p:nvPr/>
        </p:nvPicPr>
        <p:blipFill>
          <a:blip r:embed="rId5"/>
          <a:stretch/>
        </p:blipFill>
        <p:spPr>
          <a:xfrm>
            <a:off x="1676520" y="3657600"/>
            <a:ext cx="154152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Image 7" descr=""/>
          <p:cNvPicPr/>
          <p:nvPr/>
        </p:nvPicPr>
        <p:blipFill>
          <a:blip r:embed="rId6"/>
          <a:stretch/>
        </p:blipFill>
        <p:spPr>
          <a:xfrm>
            <a:off x="101520" y="4505400"/>
            <a:ext cx="1575000" cy="1285920"/>
          </a:xfrm>
          <a:prstGeom prst="rect">
            <a:avLst/>
          </a:prstGeom>
          <a:ln w="0">
            <a:noFill/>
          </a:ln>
        </p:spPr>
      </p:pic>
      <p:pic>
        <p:nvPicPr>
          <p:cNvPr id="65" name="Image 8" descr=""/>
          <p:cNvPicPr/>
          <p:nvPr/>
        </p:nvPicPr>
        <p:blipFill>
          <a:blip r:embed="rId7"/>
          <a:stretch/>
        </p:blipFill>
        <p:spPr>
          <a:xfrm>
            <a:off x="1676520" y="5148360"/>
            <a:ext cx="154152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Схема 2" descr=""/>
          <p:cNvPicPr/>
          <p:nvPr/>
        </p:nvPicPr>
        <p:blipFill>
          <a:blip r:embed="rId2"/>
          <a:stretch/>
        </p:blipFill>
        <p:spPr>
          <a:xfrm>
            <a:off x="457200" y="262080"/>
            <a:ext cx="8229600" cy="1242720"/>
          </a:xfrm>
          <a:prstGeom prst="rect">
            <a:avLst/>
          </a:prstGeom>
          <a:ln w="0">
            <a:noFill/>
          </a:ln>
        </p:spPr>
      </p:pic>
      <p:pic>
        <p:nvPicPr>
          <p:cNvPr id="68" name="Объект 4" descr=""/>
          <p:cNvPicPr/>
          <p:nvPr/>
        </p:nvPicPr>
        <p:blipFill>
          <a:blip r:embed="rId3"/>
          <a:stretch/>
        </p:blipFill>
        <p:spPr>
          <a:xfrm>
            <a:off x="457200" y="1603440"/>
            <a:ext cx="822960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Робот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N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304920" y="4648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Созданный во Франции в 2012 году, является антропоморфным роботом, который широко используется более чем в 200 учебных заведениях по всему миру. Он помогает ученикам осваивать компьютерные науки, математику и физику, а также изучает взаимодействие между человеком и маши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676520" y="1371600"/>
            <a:ext cx="5790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Робот ПА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304920" y="51102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аро — это робот, выполненный в форме детеныша тюленя, предназначенный для того, чтобы оказывать успокаивающее воздействие и вызывать положительные эмоции у пациентов больниц и домов престарел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905120" y="1539720"/>
            <a:ext cx="480060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Робот МИКРОБ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110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Этот «доктор» состоит из трёх золотых компонентов, предназначенных для доставки лекарств непосредственно в пораженную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1905120" y="1733400"/>
            <a:ext cx="480060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5-02-20T05:24:47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